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89543"/>
        <c:axId val="71813474"/>
      </c:barChart>
      <c:catAx>
        <c:axId val="23089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13474"/>
        <c:crosses val="autoZero"/>
        <c:auto val="1"/>
        <c:lblAlgn val="ctr"/>
        <c:lblOffset val="100"/>
        <c:noMultiLvlLbl val="0"/>
      </c:catAx>
      <c:valAx>
        <c:axId val="71813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89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F97-4CBC-4056-B18C-3B621AA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31E-EF24-414A-ACC4-F6CB669E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D77-B39A-4D31-9370-1D707BA7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812-69F3-4418-9528-1EFB56CA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F80-04E8-439C-800B-288DE4C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DAC-DD30-4C00-8987-20E48BC1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ECC-0309-4F64-8552-502FB29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46F-4653-4863-9766-451ABF8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B88-057E-4D20-BE1A-A80A049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D79-6AC3-45CD-BC13-60D0292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D49-BF91-4896-9B82-5E2B87D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84C-E160-40B1-A4BC-9BFF23A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66C68-3821-4484-BFE4-4919EAA4E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