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253224"/>
        <c:axId val="81562942"/>
      </c:barChart>
      <c:catAx>
        <c:axId val="30253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62942"/>
        <c:crosses val="autoZero"/>
        <c:auto val="1"/>
        <c:lblAlgn val="ctr"/>
        <c:lblOffset val="100"/>
        <c:noMultiLvlLbl val="0"/>
      </c:catAx>
      <c:valAx>
        <c:axId val="81562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3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C46-1A49-467B-BC45-3CCD4AAA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9A1-7B44-4C01-AD76-5E46EAC6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F5A-480B-4FCB-AAF6-63A2D533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F8B-B9E5-4198-B30D-2B8308CE8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D12-4BD0-4796-9181-3A88E8F2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4C1-EF95-497D-B326-2E55CF92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1C9-6345-4291-BCB3-FD078BD4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C0A2-4693-4FFF-94FD-B1F6F347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295-6C09-4CFB-B978-B7F06309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751-FDA2-465C-8F70-D032A0B3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74C-B069-4F7B-8BF6-8C1CAEE0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1FF-F363-4476-9DAE-47478FE0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976E0-F2DE-4072-9B97-DC8E528277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